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855-0690-44C1-A427-DB903190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D0C-7C6B-4B85-A4EE-965BE8D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044-F6A8-4D5A-9CF6-D1ECDB0B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D2B-5CE7-4B4F-9B8B-8EA1339D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648ED-3524-47BF-A97A-A471833B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01FC6-A241-45AD-B7CB-FA3D0472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C2815-133D-4B4A-860B-F431092C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9C20-4B40-4E5E-AB2B-C77F644A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9E2D4-2D4B-4A60-9988-B408C2E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5928D-F8DC-444F-BD60-58686F6B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817B8-E5C7-487F-A206-BB90E180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102-1EE0-401D-BE5B-05E9906B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A09B0-BD52-4F69-B140-2E7152C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BD89E-C641-4DB7-BEC5-F81F31D4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1F1BE-17A9-438D-B9C5-AF1E764D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2CF4E-DE3A-4595-9218-C3635AEA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9131D-4E93-4100-A28A-81B5184E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8F4-92CB-40B5-B56D-F7562933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C4B-DC46-4033-AA95-9F37EE0D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28D-957A-4853-A2CC-D76CD7E5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5D9-DBD9-4047-A3AD-5A638D3E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239-A0F6-454E-832B-1BFD6EC9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9B0-B51F-4D2A-9E76-B897581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6D6-4CA6-42FD-9650-CC9E2B9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16A0-9EA5-461E-A5DC-F032E5C42E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E9C2-2050-4A53-9FD0-D359F8A159E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400" spc="-1" strike="noStrike">
                <a:solidFill>
                  <a:srgbClr val="e3e3ff"/>
                </a:solidFill>
                <a:latin typeface="Arial"/>
              </a:rPr>
              <a:t>Orígenes de la civilización del Per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5" descr="http://www.peru.info/mensajeshtm/Imagenes/libro2.jpg"/>
          <p:cNvPicPr/>
          <p:nvPr/>
        </p:nvPicPr>
        <p:blipFill>
          <a:blip r:embed="rId1"/>
          <a:stretch/>
        </p:blipFill>
        <p:spPr>
          <a:xfrm>
            <a:off x="2857680" y="2054160"/>
            <a:ext cx="3786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oría inmigracionis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esta por el arqueólogo alemán Max Uh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Sostiene que los primeros pobladores habían venido por el mar desde Centroamérica y México trayendo elementos como la lengu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Ver imagen en tamaño completo"/>
          <p:cNvPicPr/>
          <p:nvPr/>
        </p:nvPicPr>
        <p:blipFill>
          <a:blip r:embed="rId1"/>
          <a:stretch/>
        </p:blipFill>
        <p:spPr>
          <a:xfrm>
            <a:off x="6993000" y="4481640"/>
            <a:ext cx="2151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La hipótesis de Rafael Larco Hoy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te investigador planteó en 1939, que el origen de la civilización andina estaba en la Costa, específicamente en Cupisn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Sin embargo Ruth Shady demostró que había una civilización más antigua con una organización política y social compleja y un centro religioso y monumental bastante articul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02m_21"/>
          <p:cNvPicPr/>
          <p:nvPr/>
        </p:nvPicPr>
        <p:blipFill>
          <a:blip r:embed="rId1"/>
          <a:stretch/>
        </p:blipFill>
        <p:spPr>
          <a:xfrm>
            <a:off x="7215120" y="4665600"/>
            <a:ext cx="19288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AREA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Investiga los primeros asentamientos humanos en el Perú con su respectiva descripción. (Por ejemplo Ca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Ver imagen en tamaño completo"/>
          <p:cNvPicPr/>
          <p:nvPr/>
        </p:nvPicPr>
        <p:blipFill>
          <a:blip r:embed="rId1"/>
          <a:stretch/>
        </p:blipFill>
        <p:spPr>
          <a:xfrm>
            <a:off x="642960" y="285840"/>
            <a:ext cx="2857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Lin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Las Piramides de Caral Part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1. Caral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071720"/>
            <a:ext cx="8472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bicación: Margen izquierda del río Supe (costa cen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Antigüedad: 2 627 y 2100 años a.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 una sociedad compleja, gobernada por sacerdotes que cumplían funciones tanto políticas como religio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rimera civilización del América, descubierto por la arqueóloga peruana Ruth Sha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ciudad presenta el anfiteatro, el templo de la Banqueta, el templo mayor y las unidades residenci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CAR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8" descr="Caral: Patrimonio Cultural de la humanidad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3e3ff"/>
                </a:solidFill>
                <a:latin typeface="Arial"/>
              </a:rPr>
              <a:t>2. Tablada de Lurí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bicación: Sur de L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scubierto por: Josefina Ramos de Cox y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ormado por recintos de barro y pied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Antigüedad: 4 500 a.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Se cree que fueron residencias primitivas y rudimentarias que los pobladores usaron durante el sedentaris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sisbib.unmsm.edu.pe/Exposiciones/FundLima/limaprehisp/images/pag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3. Cerro Palo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n 1966 Frederic Engel descubrió un poblado de gran antigüedad a 54 km. Al sur de L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Hipótesis de Frederic: Fue el primer monumento arquitectónico; pero se sabe que fue residencia temporal de un clan de 10 a 15 famil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CERRO PALO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Picture 5" descr="Photo: F.M. Rivera"/>
          <p:cNvPicPr/>
          <p:nvPr/>
        </p:nvPicPr>
        <p:blipFill>
          <a:blip r:embed="rId1"/>
          <a:stretch/>
        </p:blipFill>
        <p:spPr>
          <a:xfrm>
            <a:off x="324000" y="1662120"/>
            <a:ext cx="81356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PERIÓDIFICACIÓN DEL PERÚ ANTIGUO (John Rowe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2" descr="http://www.kalipedia.com/kalipediamedia/historia/media/200806/05/hisperu/20080605klphishpe_1_Ies_SCO.jpg"/>
          <p:cNvPicPr/>
          <p:nvPr/>
        </p:nvPicPr>
        <p:blipFill>
          <a:blip r:embed="rId1"/>
          <a:stretch/>
        </p:blipFill>
        <p:spPr>
          <a:xfrm>
            <a:off x="2071800" y="1428840"/>
            <a:ext cx="4714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4. Huaca Prie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2560" y="1071720"/>
            <a:ext cx="90010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acimiento muy antiguo ubicado en la playa de Chic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Descubierto por Junius Bird ( 1946 y 194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Se llama así porque se encontró mucha ceniza y desperdicios en descomposición (color oscur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hombre de Huaca Prieta era: sedentario, con vivienda pobre, practicaba la pesca, pero no conocía el maíz ni elaboraba vasij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Hombre de Huaca Prie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Picture 2" descr="http://www.monografias.com/trabajos68/primeros-hombres-peru/primeros-hombres-peru_image009.jpg"/>
          <p:cNvPicPr/>
          <p:nvPr/>
        </p:nvPicPr>
        <p:blipFill>
          <a:blip r:embed="rId1"/>
          <a:stretch/>
        </p:blipFill>
        <p:spPr>
          <a:xfrm>
            <a:off x="571680" y="1071720"/>
            <a:ext cx="81435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5. Kotosh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Ubicación: A 5 km. de Huánu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Descubierto: Por una expedición japonesa al mando de Seichi Izu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ronología: 2 500 a.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ta construcción fue dividida en 6 fases: Kotosh mito, Wairajirka, Kotosh, Chavín, Sajara Patac e Higueras. La más antigua se divide en: Templo blanco, manos cruzadas y el templo de los Nichit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KOTO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5" descr="KOTOSH%2B1"/>
          <p:cNvPicPr/>
          <p:nvPr/>
        </p:nvPicPr>
        <p:blipFill>
          <a:blip r:embed="rId1"/>
          <a:stretch/>
        </p:blipFill>
        <p:spPr>
          <a:xfrm>
            <a:off x="179280" y="1700280"/>
            <a:ext cx="8964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TEMPLO DE LAS MANOS CRUZADA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Picture 5" descr="manoscruzadaskotosh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6. El templo de Chuquita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143000"/>
            <a:ext cx="8329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bicación: Norte de Lima, margen del Río Chill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ocido como “El paraís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scubierto por: Frederic Eng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resenta 7 unidades arquitectónicas, 5 viviendas y 2 centros ceremoniales.(Material utilizado como la piedra y barr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ieta básica: A base de productos mari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mplo de Chuquita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2" descr="http://www.geocities.com/huacasanmarcos/paraiso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Inicio del Formativo Andi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Picture 5" descr="http://ec.kalipedia.com/kalipediamedia/historia/media/200807/31/hisecuador/20080731klphishec_25_Ies_SCO.jpg"/>
          <p:cNvPicPr/>
          <p:nvPr/>
        </p:nvPicPr>
        <p:blipFill>
          <a:blip r:embed="rId1"/>
          <a:stretch/>
        </p:blipFill>
        <p:spPr>
          <a:xfrm>
            <a:off x="0" y="1071720"/>
            <a:ext cx="4214880" cy="2523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http://www.chubut.gov.ar/infraestructura/imagenes/Trevelin%2010.jpg"/>
          <p:cNvPicPr/>
          <p:nvPr/>
        </p:nvPicPr>
        <p:blipFill>
          <a:blip r:embed="rId2"/>
          <a:stretch/>
        </p:blipFill>
        <p:spPr>
          <a:xfrm>
            <a:off x="4214880" y="1071720"/>
            <a:ext cx="4929120" cy="25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http://imagenes.acambiode.com/img-bbdd/WS1004.jpg"/>
          <p:cNvPicPr/>
          <p:nvPr/>
        </p:nvPicPr>
        <p:blipFill>
          <a:blip r:embed="rId3"/>
          <a:stretch/>
        </p:blipFill>
        <p:spPr>
          <a:xfrm>
            <a:off x="5715000" y="3522600"/>
            <a:ext cx="3429000" cy="3335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http://www.kalipedia.com/kalipediamedia/historia/media/200807/31/hisecuador/20080731klphishec_19_Ies_SCO.jpg"/>
          <p:cNvPicPr/>
          <p:nvPr/>
        </p:nvPicPr>
        <p:blipFill>
          <a:blip r:embed="rId4"/>
          <a:stretch/>
        </p:blipFill>
        <p:spPr>
          <a:xfrm>
            <a:off x="0" y="3643200"/>
            <a:ext cx="5643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www.huariperu.com/im%C3%A1genes/folkloretraje.jpg"/>
          <p:cNvPicPr/>
          <p:nvPr/>
        </p:nvPicPr>
        <p:blipFill>
          <a:blip r:embed="rId1"/>
          <a:stretch/>
        </p:blipFill>
        <p:spPr>
          <a:xfrm>
            <a:off x="285840" y="1071720"/>
            <a:ext cx="2071440" cy="219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plaverecuador.com/productos/300px-Tipos_de_frejol.jpg"/>
          <p:cNvPicPr/>
          <p:nvPr/>
        </p:nvPicPr>
        <p:blipFill>
          <a:blip r:embed="rId2"/>
          <a:stretch/>
        </p:blipFill>
        <p:spPr>
          <a:xfrm>
            <a:off x="2357280" y="1071720"/>
            <a:ext cx="2643480" cy="224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3.bp.blogspot.com/_gsus8BVdNWc/RyJLzptALNI/AAAAAAAABF4/mxAvUq5UzI4/s320/calabazas.jpg"/>
          <p:cNvPicPr/>
          <p:nvPr/>
        </p:nvPicPr>
        <p:blipFill>
          <a:blip r:embed="rId3"/>
          <a:stretch/>
        </p:blipFill>
        <p:spPr>
          <a:xfrm>
            <a:off x="5072040" y="1000080"/>
            <a:ext cx="3000240" cy="235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www.ecofan.com.mx/images/FlorAlgodon.jpg"/>
          <p:cNvPicPr/>
          <p:nvPr/>
        </p:nvPicPr>
        <p:blipFill>
          <a:blip r:embed="rId4"/>
          <a:stretch/>
        </p:blipFill>
        <p:spPr>
          <a:xfrm>
            <a:off x="142920" y="3357720"/>
            <a:ext cx="1714320" cy="207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http://www.parmasac.com/main/wp-content/uploads/2008/04/maiz-03.jpg"/>
          <p:cNvPicPr/>
          <p:nvPr/>
        </p:nvPicPr>
        <p:blipFill>
          <a:blip r:embed="rId5"/>
          <a:stretch/>
        </p:blipFill>
        <p:spPr>
          <a:xfrm>
            <a:off x="1857240" y="3357720"/>
            <a:ext cx="1714680" cy="214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http://www.inia.gob.pe/eventos/evento0333/foto1.jpg"/>
          <p:cNvPicPr/>
          <p:nvPr/>
        </p:nvPicPr>
        <p:blipFill>
          <a:blip r:embed="rId6"/>
          <a:stretch/>
        </p:blipFill>
        <p:spPr>
          <a:xfrm>
            <a:off x="3571920" y="342900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http://www.paripassu.cl/images/jardin.JPG"/>
          <p:cNvPicPr/>
          <p:nvPr/>
        </p:nvPicPr>
        <p:blipFill>
          <a:blip r:embed="rId7"/>
          <a:stretch/>
        </p:blipFill>
        <p:spPr>
          <a:xfrm>
            <a:off x="6143760" y="3429000"/>
            <a:ext cx="2485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28548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l hombre andino creó una de las culturas básicas y autónomas de la humanidad, tan importante como lo llegaron a ser las culturas de Grecia, Egipto, Mesopotámica, India, China y o la de los May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Hace 8.000 años cultivó el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frejol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calabaz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. Después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quinu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,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pap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(patatas) y mucho más recientemente el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lgodón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maíz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. Domesticó mamíferos (camélidos) como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lam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lpac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vicuñ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. También extrajo del Pacífico pescado y mariscos.</a:t>
            </a:r>
            <a:br>
              <a:rPr sz="2400"/>
            </a:br>
            <a:br>
              <a:rPr sz="2400"/>
            </a:b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Hacia el 2.000 AC organizaron el trabajo, construyeron canales y comenzaron a hacerse sedentarios. Acabaron estratificándose y comenzaron a surgir otras nuevas culturas, de carácter guerrero y conquistador, que se extendieron por todo el territorio and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JOHN ROWE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2" descr="Ver imagen en tamaño completo"/>
          <p:cNvPicPr/>
          <p:nvPr/>
        </p:nvPicPr>
        <p:blipFill>
          <a:blip r:embed="rId1"/>
          <a:stretch/>
        </p:blipFill>
        <p:spPr>
          <a:xfrm>
            <a:off x="2857680" y="1714680"/>
            <a:ext cx="3535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Cambios en el periodo inici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Descubrimiento de la cer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Aldeas y centros monumentales se mudaron tierra aden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La agricultura fue el medio de subsistencia más impor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Lin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COSMOVISION AN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Simbolismo de la Cultura An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YouTube - Gran Historia Interactiva del Perú / Nuestros ancestros – Para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57120" y="1187280"/>
          <a:ext cx="8229600" cy="5670720"/>
        </p:xfrm>
        <a:graphic>
          <a:graphicData uri="http://schemas.openxmlformats.org/drawingml/2006/table">
            <a:tbl>
              <a:tblPr/>
              <a:tblGrid>
                <a:gridCol w="1542960"/>
                <a:gridCol w="1785960"/>
                <a:gridCol w="49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nolo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es cul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45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ardí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10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ardí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Chancay, Chincha, Chachapoyas, Cajamarca, Chimú, Huancas, Señorío Cuzco, Señoríos aymaras, Chancas, Lambayequ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60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Wari, Tiahuana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00 d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Intermedio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Mochica, Virú, Recuay, Lima, Nazca, Tiahuanac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2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Horizonte Tempr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Pukara, Chavín, Paracas, Salinar, Vic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0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Precerám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Agricultores/ Horticult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0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Arca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Cazadores y recolecto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4000 a.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Periodo ini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periodificación de las culturas peruanas fue propuesta por John Rowe. Quien divide a las culturas peruanas en horizontes e intermedios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.HORIZONTE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estadios de similitud cultural que abarcan un extenso territorio con tendencias pan andino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2.INTERMEDIO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eriodo de diferenciación regional. Aparición de culturas locales con características propias, aunque aun mantienen elementos típicos del horizonte que las precedió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oría autoctonis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esta por el arqueólogo peruano Julio C. Tello en 19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Chavín fue el cimiento de la civilización peruana y de ella partieron las demás civilizaciones perua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tello1a"/>
          <p:cNvPicPr/>
          <p:nvPr/>
        </p:nvPicPr>
        <p:blipFill>
          <a:blip r:embed="rId1"/>
          <a:stretch/>
        </p:blipFill>
        <p:spPr>
          <a:xfrm>
            <a:off x="7066080" y="3929040"/>
            <a:ext cx="20779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CHAVÍ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2" descr="http://upload.wikimedia.org/wikipedia/commons/8/86/Chavin-small.png"/>
          <p:cNvPicPr/>
          <p:nvPr/>
        </p:nvPicPr>
        <p:blipFill>
          <a:blip r:embed="rId1"/>
          <a:stretch/>
        </p:blipFill>
        <p:spPr>
          <a:xfrm>
            <a:off x="2214720" y="1785960"/>
            <a:ext cx="46846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Teoría aloctonis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esta por el arqueólogo peruano Federico Kauffman Do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ropuso que el origen de la cultura andina provenía de Mesoamérica, la actual Mé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http://huacrachuco.com/HuacrachucoPhotos/11IMAGE002.JPG"/>
          <p:cNvPicPr/>
          <p:nvPr/>
        </p:nvPicPr>
        <p:blipFill>
          <a:blip r:embed="rId1"/>
          <a:stretch/>
        </p:blipFill>
        <p:spPr>
          <a:xfrm>
            <a:off x="5857920" y="3981600"/>
            <a:ext cx="32860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3e3ff"/>
                </a:solidFill>
                <a:latin typeface="Arial"/>
              </a:rPr>
              <a:t>MÉX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2" descr="http://www.excelduc.org.mx/images/contenidos/mapa_mexico.gif"/>
          <p:cNvPicPr/>
          <p:nvPr/>
        </p:nvPicPr>
        <p:blipFill>
          <a:blip r:embed="rId1"/>
          <a:stretch/>
        </p:blipFill>
        <p:spPr>
          <a:xfrm>
            <a:off x="1500120" y="1695600"/>
            <a:ext cx="6648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4:03:58Z</dcterms:created>
  <dc:creator>Familia Soto Muñante</dc:creator>
  <dc:description/>
  <dc:language>en-US</dc:language>
  <cp:lastModifiedBy>ELIZABETH</cp:lastModifiedBy>
  <dcterms:modified xsi:type="dcterms:W3CDTF">2009-09-18T23:18:48Z</dcterms:modified>
  <cp:revision>38</cp:revision>
  <dc:subject/>
  <dc:title>Diapositiva 1</dc:title>
</cp:coreProperties>
</file>